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098-88BF-4102-BD32-08E43208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84B-1F8C-47A3-A4A4-5CFAB33D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F38-6C9C-41E0-9661-5E2EFF98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E1C-A4E8-4ACC-A969-58F7910A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E13-996E-4090-97D1-0EB39D10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FF2-474B-4882-900E-343F38EE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BFA-0EC5-4630-B52C-E23CA842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C51-835E-4907-8881-A834E96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408-70CA-41F0-BC6A-E000C191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B07-D124-4A04-8797-9A40EEA7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7E9-2E80-4918-B4FD-28DF9E08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000-D8B0-4805-9BB6-756C4D1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C94B-27A4-459E-837F-50663FD82B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6868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起的句子或分句（在肯定句后），说某人、某事与刚才提到的相同，这时也用倒装语序。如有助动词或情态动词，把它放在主语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n can dance beautifully,    and_______________________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姐姐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ock music. _______________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我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a headache.       ______________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我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1240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can her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do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have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2:09:20Z</dcterms:created>
  <dc:creator>user</dc:creator>
  <dc:description/>
  <dc:language>en-US</dc:language>
  <cp:lastModifiedBy>zhangjunguang</cp:lastModifiedBy>
  <dcterms:modified xsi:type="dcterms:W3CDTF">2003-08-06T06:12:36Z</dcterms:modified>
  <cp:revision>8</cp:revision>
  <dc:subject/>
  <dc:title>PowerPoint 演示文稿</dc:title>
</cp:coreProperties>
</file>